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99A-49B5-4427-BB5E-0E9E49CB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6D1-198B-42C5-B05D-ED015A74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48D-D3CD-4DD1-A3C0-C1CE6EED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01D-EC0D-43A7-B615-1F61F3C3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BD9D-98ED-4320-BA2C-9080D70D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08F3-1BB7-42FB-A89E-EE254DAD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43CD-196F-4184-98E6-47C8D03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01A3-41B4-4543-AADD-990D7062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D774-BF49-407B-A197-B8CA984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C8C0-44CA-4606-AA55-AD1AD12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2A74-505D-4A73-945F-E2CE2148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F33-AF77-4628-AC36-16D4B830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8E33-9E6D-4032-8E56-5754067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42E7-FE36-4A9B-B868-9EDE6D1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733-079F-424E-8EA5-AAD2E77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8C2-4AF5-4877-9943-848286A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1E4-6EB4-4CA0-BE4D-3105A6BA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A60-A0ED-4BE0-BE66-A8B9CAB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0CE-CBE1-4D66-8DDF-6EB61E7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074-40F9-4019-BD4B-94D93ED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C78-614F-4B4F-8527-D3C5928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5F1-81F8-4408-B132-814EA5E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E9B-7FC9-4882-954B-B180BE0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085-E5E1-499F-A2BB-B4656B7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575A-7749-4322-A70F-F31FA5AD8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EA79-98EC-4FD0-A8CF-540746C26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Decision Models B60.2350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ier Rojo Alvar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el Az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tza 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o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nsley Quiohi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optimization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solver to define the optimal combination of floors and the ratio 1br/2br to be built that maximizes pro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hypothesis made the number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8001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629320" cy="294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Tribe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1736640"/>
            <a:ext cx="6553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Chelse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7040" y="1676520"/>
            <a:ext cx="645624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: So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52480" y="1843200"/>
            <a:ext cx="65232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use of our model is to study what would happen with our project if different decisions were adopted or if reality was different from our assu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sensitivities we have used different tools: Solver, Solver Tables and graphical displ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uld influence sales forecast in Soho it could turn a positive N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71600" y="1908000"/>
            <a:ext cx="72388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NPV of project based on Sale prices of 1br. and 2br. a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800360"/>
            <a:ext cx="761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of NPV of project based on % of area needed for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68520" y="2394000"/>
            <a:ext cx="6661080" cy="4311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number of floors needed depending on sales prices of 1br and 2br a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622764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Sensitivity Analysi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Juran’s Construction Compan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13372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89240" y="2257560"/>
            <a:ext cx="2711160" cy="3460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4800" y="1905120"/>
            <a:ext cx="5029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gen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j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/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sitivity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20 story building in Chel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200 one br. apartments and 60 two br. apar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NPV of the project: $27,240,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nvestment = Profits/Cost =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523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oject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ran’s Construction Company owns 3 parcels of land in Manhattan in different neighborhoods – Tribeca, Chelsea and Soh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ximize Each Building’s Profit = NPV of Sales – NPV of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cc"/>
                </a:solidFill>
                <a:latin typeface="Times New Roman"/>
              </a:rPr>
              <a:t>Decision variables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mal number of floors to b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of 1 and 2 bedroom apar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neighborhood to bui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oject Constraint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number of 1br and 2br a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uilding will have at least 5 floors      (foundations 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infrastructure needed to support the building such as wiring, supporting bins, etc. increases by 1% for each additional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area per floor &lt;= available area after supporting infrastructur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building is a function of surface built, cost of land, type of apartments built and number of flo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 Cost = Cost of land + Cost of foundations + Cost of construction + Air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ales = #m2*Price per m2 (Price depends on the type of apar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Prices and costs are the same across neighborhoods but differ for 1br and 2br a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demand for the next five years has been estima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8229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7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the sale profile per neighborhoo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Data/Assump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=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eriod = 5 years (regardless of the number of floors or number of apartments bui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surface to be built in any of the neighborho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29000" y="4800600"/>
            <a:ext cx="3086640" cy="1678680"/>
            <a:chOff x="3429000" y="4800600"/>
            <a:chExt cx="3086640" cy="1678680"/>
          </a:xfrm>
        </p:grpSpPr>
        <p:sp>
          <p:nvSpPr>
            <p:cNvPr id="151" name=""/>
            <p:cNvSpPr/>
            <p:nvPr/>
          </p:nvSpPr>
          <p:spPr>
            <a:xfrm>
              <a:off x="3429000" y="4800600"/>
              <a:ext cx="2362320" cy="1295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2400" y="50292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04880" y="60195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8:25:16Z</dcterms:created>
  <dc:creator>Stern School</dc:creator>
  <dc:description/>
  <dc:language>en-US</dc:language>
  <cp:lastModifiedBy>ADL</cp:lastModifiedBy>
  <dcterms:modified xsi:type="dcterms:W3CDTF">2003-04-29T08:01:11Z</dcterms:modified>
  <cp:revision>22</cp:revision>
  <dc:subject/>
  <dc:title>Decision Models B60.2350</dc:title>
</cp:coreProperties>
</file>